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256-D6E2-4E13-BE0B-F95E869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D37-50AD-4CCE-8A41-C3D9B42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0E3-A528-4066-9EC2-E4744A0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AD9-B8EB-4940-B66F-2E890F17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74F-4172-454D-A137-A09C220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D7F-004C-4383-9444-8B1F146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79C-EB98-47FD-A3B1-1AF757E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5C6-4A6A-4729-8DE3-1E9EE41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4E-1CAA-4B06-AA90-73F59D9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97B-655A-43BA-8F7C-3F8CF4B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0DD-01E6-4064-B042-1470750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617-7ACD-4930-84BD-30EA4AE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FFE-D065-4DDB-AA71-8850FAB0E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2286000"/>
            <a:ext cx="43052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 in Rus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57200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emilia Kapica, Nina Luu, Kevin Do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47920" y="53352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d about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s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for planting c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22860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he Russian people adapted to the bad l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52280"/>
            <a:ext cx="876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good things about the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02:06Z</dcterms:created>
  <dc:creator>QPS</dc:creator>
  <dc:description/>
  <dc:language>en-US</dc:language>
  <cp:lastModifiedBy>QPS</cp:lastModifiedBy>
  <dcterms:modified xsi:type="dcterms:W3CDTF">2010-04-21T04:32:23Z</dcterms:modified>
  <cp:revision>2</cp:revision>
  <dc:subject/>
  <dc:title>Slide 1</dc:title>
</cp:coreProperties>
</file>